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00A9-C9BC-4208-86AF-FF125F5C8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FD02-D63B-4325-B288-58061C04D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61B5-A150-4F25-8AA7-5F0BD238D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317D-CCBA-4047-ABC3-C76DE2A57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11C8-BF3A-4C2B-A140-FB8F64DF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25FD-4976-4742-B6EA-307936783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AF76-AE8B-449E-BA32-F1568AEFE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E476-8929-4627-A8AA-ED9D07D4B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1B48-1EAF-46DF-B0CB-BB10C67D3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F72-D083-4490-96FA-5A7DC5B0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F2A-B43A-4787-95A4-3E3D234F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C49-8DD2-4E80-AD8B-93105E0A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DF0-8FE0-4615-8827-1A343D98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75D-EA0D-47D3-A5E2-2CDCD8BF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E44-D643-4A25-9C11-11C0215D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168-E2ED-4E22-AF50-81CDFDDE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D11-8FBD-4301-9FC8-8216B60D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3AEF-CB2D-44F2-B922-6623F705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133-8AA4-4A94-9F7E-B46B7C91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F93-8DF4-4279-8C66-61A22DBF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4A2-88D1-459F-A37C-1AA9BBDA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4F8A-1842-45FB-8409-0F63A2002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image" Target="../media/image4.jpeg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nfo-side"/>
          <p:cNvPicPr/>
          <p:nvPr/>
        </p:nvPicPr>
        <p:blipFill>
          <a:blip r:embed="rId1"/>
          <a:stretch/>
        </p:blipFill>
        <p:spPr>
          <a:xfrm>
            <a:off x="0" y="4114800"/>
            <a:ext cx="2571840" cy="2185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4724280"/>
            <a:ext cx="266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 marital statu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5181480"/>
            <a:ext cx="15238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 birthda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>
            <a:hlinkClick r:id="rId2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>
            <a:hlinkClick r:id="rId3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6019920"/>
            <a:ext cx="259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of 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0" y="40384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8" descr="wall"/>
          <p:cNvPicPr/>
          <p:nvPr/>
        </p:nvPicPr>
        <p:blipFill>
          <a:blip r:embed="rId4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9"/>
          <p:cNvSpPr/>
          <p:nvPr/>
        </p:nvSpPr>
        <p:spPr>
          <a:xfrm>
            <a:off x="2286000" y="1447920"/>
            <a:ext cx="66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statu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0" descr="view photos"/>
          <p:cNvPicPr/>
          <p:nvPr/>
        </p:nvPicPr>
        <p:blipFill>
          <a:blip r:embed="rId5"/>
          <a:stretch/>
        </p:blipFill>
        <p:spPr>
          <a:xfrm>
            <a:off x="0" y="3581280"/>
            <a:ext cx="2417760" cy="501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1"/>
          <p:cNvSpPr/>
          <p:nvPr/>
        </p:nvSpPr>
        <p:spPr>
          <a:xfrm>
            <a:off x="76320" y="914400"/>
            <a:ext cx="1981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2">
            <a:hlinkClick r:id="rId6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3">
            <a:hlinkClick r:id="rId7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4">
            <a:hlinkClick r:id="rId8" action="ppaction://hlinksldjump"/>
          </p:cNvPr>
          <p:cNvSpPr/>
          <p:nvPr/>
        </p:nvSpPr>
        <p:spPr>
          <a:xfrm>
            <a:off x="152280" y="38098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5">
            <a:hlinkClick r:id="rId9" action="ppaction://hlinksldjump"/>
          </p:cNvPr>
          <p:cNvSpPr/>
          <p:nvPr/>
        </p:nvSpPr>
        <p:spPr>
          <a:xfrm>
            <a:off x="152280" y="35812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3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3" descr="FBmasthead2_1204x83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>
            <a:hlinkClick r:id="rId11" action="ppaction://hlinksldjump"/>
          </p:cNvPr>
          <p:cNvSpPr/>
          <p:nvPr/>
        </p:nvSpPr>
        <p:spPr>
          <a:xfrm>
            <a:off x="28195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>
            <a:hlinkClick r:id="rId12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3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0" y="4267080"/>
            <a:ext cx="1676520" cy="228600"/>
          </a:xfrm>
          <a:custGeom>
            <a:avLst/>
            <a:gdLst>
              <a:gd name="textAreaLeft" fmla="*/ 14760 w 1676520"/>
              <a:gd name="textAreaRight" fmla="*/ 1661760 w 1676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58196" h="21600">
                <a:moveTo>
                  <a:pt x="0" y="0"/>
                </a:moveTo>
                <a:lnTo>
                  <a:pt x="158196" y="0"/>
                </a:lnTo>
                <a:lnTo>
                  <a:pt x="158196" y="21600"/>
                </a:lnTo>
                <a:lnTo>
                  <a:pt x="0" y="21600"/>
                </a:lnTo>
                <a:close/>
              </a:path>
              <a:path fill="lightenLess" w="158196" h="21600">
                <a:moveTo>
                  <a:pt x="0" y="0"/>
                </a:moveTo>
                <a:lnTo>
                  <a:pt x="158196" y="0"/>
                </a:lnTo>
                <a:lnTo>
                  <a:pt x="156796" y="1400"/>
                </a:lnTo>
                <a:lnTo>
                  <a:pt x="1400" y="1400"/>
                </a:lnTo>
                <a:close/>
              </a:path>
              <a:path fill="darken" w="158196" h="21600">
                <a:moveTo>
                  <a:pt x="158196" y="0"/>
                </a:moveTo>
                <a:lnTo>
                  <a:pt x="158196" y="21600"/>
                </a:lnTo>
                <a:lnTo>
                  <a:pt x="156796" y="20200"/>
                </a:lnTo>
                <a:lnTo>
                  <a:pt x="156796" y="1400"/>
                </a:lnTo>
                <a:close/>
              </a:path>
              <a:path fill="darkenLess" w="158196" h="21600">
                <a:moveTo>
                  <a:pt x="158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796" y="20200"/>
                </a:lnTo>
                <a:close/>
              </a:path>
              <a:path fill="lighten" w="158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76320" y="914400"/>
            <a:ext cx="1981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2209680" y="1523880"/>
            <a:ext cx="66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statu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4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Wal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3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6"/>
          <p:cNvSpPr/>
          <p:nvPr/>
        </p:nvSpPr>
        <p:spPr>
          <a:xfrm>
            <a:off x="76320" y="914400"/>
            <a:ext cx="1981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7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8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6"/>
          <p:cNvSpPr/>
          <p:nvPr/>
        </p:nvSpPr>
        <p:spPr>
          <a:xfrm>
            <a:off x="2209680" y="1523880"/>
            <a:ext cx="66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statu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9"/>
          <p:cNvSpPr/>
          <p:nvPr/>
        </p:nvSpPr>
        <p:spPr>
          <a:xfrm>
            <a:off x="3200400" y="5410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>
            <a:hlinkClick r:id="rId7" action="ppaction://hlinksldjump"/>
          </p:cNvPr>
          <p:cNvSpPr/>
          <p:nvPr/>
        </p:nvSpPr>
        <p:spPr>
          <a:xfrm>
            <a:off x="28195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>
            <a:hlinkClick r:id="rId8" action="ppaction://hlinksldjump"/>
          </p:cNvPr>
          <p:cNvSpPr/>
          <p:nvPr/>
        </p:nvSpPr>
        <p:spPr>
          <a:xfrm>
            <a:off x="335268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>
            <a:hlinkClick r:id="" action="ppaction://hlinkshowjump?jump=firstslide"/>
          </p:cNvPr>
          <p:cNvSpPr/>
          <p:nvPr/>
        </p:nvSpPr>
        <p:spPr>
          <a:xfrm>
            <a:off x="23623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Wall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76320" y="914400"/>
            <a:ext cx="1981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2286000" y="1523880"/>
            <a:ext cx="66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statu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3276720" y="26668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5486400" y="3124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1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63244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Wall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>
            <a:hlinkClick r:id="" action="ppaction://hlinkshowjump?jump=firstslide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wall"/>
          <p:cNvPicPr/>
          <p:nvPr/>
        </p:nvPicPr>
        <p:blipFill>
          <a:blip r:embed="rId3"/>
          <a:stretch/>
        </p:blipFill>
        <p:spPr>
          <a:xfrm>
            <a:off x="2008080" y="914400"/>
            <a:ext cx="7135920" cy="1863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76320" y="914400"/>
            <a:ext cx="1981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">
            <a:hlinkClick r:id="rId4" action="ppaction://hlinksldjump"/>
          </p:cNvPr>
          <p:cNvSpPr/>
          <p:nvPr/>
        </p:nvSpPr>
        <p:spPr>
          <a:xfrm>
            <a:off x="2819520" y="99072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>
            <a:hlinkClick r:id="rId5" action="ppaction://hlinksldjump"/>
          </p:cNvPr>
          <p:cNvSpPr/>
          <p:nvPr/>
        </p:nvSpPr>
        <p:spPr>
          <a:xfrm>
            <a:off x="3505320" y="990720"/>
            <a:ext cx="838080" cy="228600"/>
          </a:xfrm>
          <a:custGeom>
            <a:avLst/>
            <a:gdLst>
              <a:gd name="textAreaLeft" fmla="*/ 14760 w 838080"/>
              <a:gd name="textAreaRight" fmla="*/ 823320 w 838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9098" h="21600">
                <a:moveTo>
                  <a:pt x="0" y="0"/>
                </a:moveTo>
                <a:lnTo>
                  <a:pt x="79098" y="0"/>
                </a:lnTo>
                <a:lnTo>
                  <a:pt x="79098" y="21600"/>
                </a:lnTo>
                <a:lnTo>
                  <a:pt x="0" y="21600"/>
                </a:lnTo>
                <a:close/>
              </a:path>
              <a:path fill="lightenLess" w="79098" h="21600">
                <a:moveTo>
                  <a:pt x="0" y="0"/>
                </a:moveTo>
                <a:lnTo>
                  <a:pt x="79098" y="0"/>
                </a:lnTo>
                <a:lnTo>
                  <a:pt x="77698" y="1400"/>
                </a:lnTo>
                <a:lnTo>
                  <a:pt x="1400" y="1400"/>
                </a:lnTo>
                <a:close/>
              </a:path>
              <a:path fill="darken" w="79098" h="21600">
                <a:moveTo>
                  <a:pt x="79098" y="0"/>
                </a:moveTo>
                <a:lnTo>
                  <a:pt x="79098" y="21600"/>
                </a:lnTo>
                <a:lnTo>
                  <a:pt x="77698" y="20200"/>
                </a:lnTo>
                <a:lnTo>
                  <a:pt x="77698" y="1400"/>
                </a:lnTo>
                <a:close/>
              </a:path>
              <a:path fill="darkenLess" w="79098" h="21600">
                <a:moveTo>
                  <a:pt x="7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98" y="20200"/>
                </a:lnTo>
                <a:close/>
              </a:path>
              <a:path fill="lighten" w="7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4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5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209680" y="1447920"/>
            <a:ext cx="662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 statu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9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Wall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8" descr="basic-info"/>
          <p:cNvPicPr/>
          <p:nvPr/>
        </p:nvPicPr>
        <p:blipFill>
          <a:blip r:embed="rId4"/>
          <a:stretch/>
        </p:blipFill>
        <p:spPr>
          <a:xfrm>
            <a:off x="152280" y="838080"/>
            <a:ext cx="2971800" cy="2924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838080" y="152388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nd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447920" y="18288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rthdate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752480" y="228600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ere bor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819520" y="26668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ital statu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209680" y="312408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litical view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371600" y="36576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ligious view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6" descr="personal-info"/>
          <p:cNvPicPr/>
          <p:nvPr/>
        </p:nvPicPr>
        <p:blipFill>
          <a:blip r:embed="rId5"/>
          <a:srcRect l="0" t="0" r="0" b="16075"/>
          <a:stretch/>
        </p:blipFill>
        <p:spPr>
          <a:xfrm>
            <a:off x="4419720" y="914400"/>
            <a:ext cx="2403360" cy="3581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7"/>
          <p:cNvSpPr/>
          <p:nvPr/>
        </p:nvSpPr>
        <p:spPr>
          <a:xfrm>
            <a:off x="5486400" y="1371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at do you  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410080" y="198108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ype interest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019920" y="22860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vorite mus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400800" y="2590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do you watch on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324480" y="28954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at movies do you lik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019920" y="3276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at do you rea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4648320" y="3886200"/>
            <a:ext cx="35812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ype some facts about yourself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152280" y="43434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Tahoma"/>
              </a:rPr>
              <a:t>Died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e he/she died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5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6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>
            <a:hlinkClick r:id="rId1" action="ppaction://hlinksldjump"/>
          </p:cNvPr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>
            <a:hlinkClick r:id="rId2" action="ppaction://hlinksldjump"/>
          </p:cNvPr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>
            <a:hlinkClick r:id="rId3" action="ppaction://hlinksldjump"/>
          </p:cNvPr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26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27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>
            <a:hlinkClick r:id="rId4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>
            <a:hlinkClick r:id="rId5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0" descr="FBmasthead2_1204x83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>
            <a:hlinkClick r:id="rId7" action="ppaction://hlinksldjump"/>
          </p:cNvPr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>
            <a:hlinkClick r:id="rId8" action="ppaction://hlinksldjump"/>
          </p:cNvPr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78168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0020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666880" y="4572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6765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133720" y="45720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>
            <a:hlinkClick r:id="" action="ppaction://hlinkshowjump?jump=previousslide"/>
          </p:cNvPr>
          <p:cNvSpPr/>
          <p:nvPr/>
        </p:nvSpPr>
        <p:spPr>
          <a:xfrm>
            <a:off x="0" y="6400800"/>
            <a:ext cx="530280" cy="457200"/>
          </a:xfrm>
          <a:custGeom>
            <a:avLst/>
            <a:gdLst>
              <a:gd name="textAreaLeft" fmla="*/ 29520 w 530280"/>
              <a:gd name="textAreaRight" fmla="*/ 500760 w 530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0" h="21600">
                <a:moveTo>
                  <a:pt x="5518" y="10800"/>
                </a:moveTo>
                <a:lnTo>
                  <a:pt x="19531" y="3794"/>
                </a:lnTo>
                <a:lnTo>
                  <a:pt x="19531" y="17806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2f2f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6" descr="FBmasthead2_1204x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303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27432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76720" y="304920"/>
            <a:ext cx="53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>
            <a:hlinkClick r:id="" action="ppaction://hlinkshowjump?jump=firstslide"/>
          </p:cNvPr>
          <p:cNvSpPr/>
          <p:nvPr/>
        </p:nvSpPr>
        <p:spPr>
          <a:xfrm>
            <a:off x="2286000" y="304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629400" y="152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d6f5"/>
                </a:solidFill>
                <a:latin typeface="Arial Rounded MT Bold"/>
              </a:rPr>
              <a:t>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9:29:44Z</dcterms:created>
  <dc:creator>A. User</dc:creator>
  <dc:description/>
  <dc:language>en-US</dc:language>
  <cp:lastModifiedBy> </cp:lastModifiedBy>
  <dcterms:modified xsi:type="dcterms:W3CDTF">2010-04-14T17:37:39Z</dcterms:modified>
  <cp:revision>44</cp:revision>
  <dc:subject/>
  <dc:title>PowerPoint Presentation</dc:title>
</cp:coreProperties>
</file>